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wmf" ContentType="image/x-wmf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993-32A2-4818-BA64-12DB1F58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E2BF-1792-4C45-8AA3-EC73ED29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CB7-ED62-4F80-B8D4-89C909CE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A9C-0889-470F-AEE5-0DF68EF6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EDFD-C611-4FCC-9C61-14645D14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4BB7-D1C2-41BD-B4B7-A0C44478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8189-8C04-4320-8199-8E9297EF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CC8F-64BF-4297-B805-43D96E74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BD9C-77BF-482B-844E-071C8889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4871-CFD0-46B9-9A2A-04AACA3B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CFC7-C606-48B3-87C7-E81CB351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A0F-8133-4D80-9178-36CB9E45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7489-7A80-48CF-B6A3-3A67EC56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E872-DF24-4A53-9100-7DD79B6F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AF3A-FD65-4914-B682-F8946680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222B-384A-426C-8240-913F814A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088C-DB62-492C-A1AA-DAA5FBEB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0A93C-8537-4A2D-9D51-A845F72C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674AE-85D0-478C-9F93-64781BF9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A6A6-979F-4228-9171-1ED3E29E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CF4E-D5EB-4D03-BC12-A666CC7B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72312-1418-4E3C-9722-2706B905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A7D-05BC-4BA3-8C1D-D62BB156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7EC3A-9316-4541-94DD-C17E3968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F28D0-B524-4D52-A987-C3D277BB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36D5F-5AE8-4E22-8C2E-08318304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B9F7D-BE7C-4006-BCFC-4FB66B89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9C86C-F981-459B-ACEC-4C334335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99C8D-493A-4643-A709-4BE61C0D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DAE35-EBB3-47FE-B93D-16A30B89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BEA3F-40E3-498F-BDDE-E5244D7E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B203D-8984-44E3-9AD7-6C458A85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8BEF6-7C06-48E6-96EB-65AA94C7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ECF-671B-47C0-AA69-E5597196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65D3E-1CEA-4F4C-B743-B396BFDA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54BFE-E938-45FE-8D33-76D482D2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59BA7-22E2-4D66-AB66-1B23407F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DAD19-B175-4C02-A857-35EC0D6F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335D5-5498-4D50-8BFD-15CEA97A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46E01-8C37-4D4A-AED4-F2EA00DB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4073D-890B-4A06-A7DC-7F066DA1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D003D-E290-4F81-8232-0D61BF85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6B8BD-A7D5-45EF-B87F-755F7AE0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0144B-9DC6-4110-88B0-BC6C6FA8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602-6F3A-4890-940E-C1FB3642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B3A47-02F1-4421-AEF2-9CA423D2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5B48E-6956-43DD-9D78-D9D3A4DE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38231-E4E1-4C6B-B708-E5FEE7DF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6CF50-31AA-4157-9809-213435CE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B8147-CB26-42D2-8F8E-66B110FC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5E913-AE70-436D-9147-66D69141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D3726-D753-4545-83F0-1F864A0F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3D576-B749-4C5A-BB06-8628E7A4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F4FBD-AD00-4F3E-B898-062FF899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D6296-C5F8-4D5D-B8CE-DD3B84E5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F8A-8222-47B9-8E5A-B98FD981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B9F33-B71B-4CFA-A231-D837C9F2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163F7-020E-4641-9C07-4B5C2EC8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B3B13-23C3-45CF-9FB7-467D23B5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0FA2C-EED4-48EB-A6F6-B81FA0A9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2E72B-75E1-47EB-BE41-70D5F82F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BD40C-2CC0-4E03-9D6D-1F2A19FD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C6BA6-B3CE-41F6-A139-A43215CC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A744D-77AD-46EE-BD02-5E40E785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276F2-3559-4B11-8E6B-06C233DB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69CDA-724C-4AF7-8D2A-38344784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6B8-44B9-4FAD-84E6-9A2DA7B7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EB7DB-A012-44C2-8318-498FB1EF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F1911-C4B1-42CD-862B-FB5CDBA3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267B9-4CBD-4D7C-85A4-86F91B3A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8C4A-D105-4088-A0FD-85663F13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BB7-4F93-4511-BA25-73F23A9F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4CED-534A-4397-8B83-93EC86E3AAA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10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D244-6C97-4601-83DC-93ADA31509F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9AD4-50AC-467E-8871-91EE09FE094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020B-08A1-4E37-BF17-9F718479925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BFA8-EEC3-44B7-BB23-3D3AC10A3504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57D3-E1F0-42D1-A0B7-93B7919D424E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563868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68580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525780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72400" y="358128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905120" y="1447920"/>
            <a:ext cx="6962760" cy="5048280"/>
            <a:chOff x="1905120" y="1447920"/>
            <a:chExt cx="6962760" cy="5048280"/>
          </a:xfrm>
        </p:grpSpPr>
        <p:sp>
          <p:nvSpPr>
            <p:cNvPr id="257" name=""/>
            <p:cNvSpPr txBox="1"/>
            <p:nvPr/>
          </p:nvSpPr>
          <p:spPr>
            <a:xfrm>
              <a:off x="1905120" y="1447920"/>
              <a:ext cx="6324480" cy="167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33cc33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幼圆"/>
                </a:rPr>
                <a:t>食物中的营养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5486400" y="6172200"/>
              <a:ext cx="338148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1" strike="noStrike">
                  <a:ln w="1260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浙江省建德市新安江第一小学 秦爱军</a:t>
              </a:r>
              <a:endParaRPr b="0" lang="en-US" sz="10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73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66680" y="13716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a5442"/>
                </a:solidFill>
                <a:latin typeface="Arial"/>
              </a:rPr>
              <a:t>维生素和矿物质有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调节身体机能</a:t>
            </a:r>
            <a:r>
              <a:rPr b="0" lang="zh-CN" sz="4800" spc="-1" strike="noStrike">
                <a:solidFill>
                  <a:srgbClr val="0a5442"/>
                </a:solidFill>
                <a:latin typeface="Arial"/>
              </a:rPr>
              <a:t>的作用，它们的种类非常多，是我们保持健康不可缺少的营养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0880" y="533520"/>
            <a:ext cx="5562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幼圆"/>
              </a:rPr>
              <a:t>怎样才知道食物中含有哪些营养呢？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75" name=""/>
          <p:cNvSpPr/>
          <p:nvPr/>
        </p:nvSpPr>
        <p:spPr>
          <a:xfrm>
            <a:off x="2666880" y="1371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我们可以通过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实验和查阅资料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的方法辨别食物中含有的营养成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934320" y="2514600"/>
            <a:ext cx="186048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833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脂肪的辨别方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用棉签蘸一点食用油，涂在白纸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分别用肥肉、花生米等在白纸上挤压、滑动。含有脂肪的食物在白纸上会留下油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563400"/>
            <a:ext cx="9144000" cy="629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9608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淀粉的辨别方法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1.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在淀粉糊中滴入一滴碘酒，会看到淀粉变成蓝色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2.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分别在不同的食物上滴一滴碘酒，观察实验现象。如果发现有变蓝色的现象出现，说明这种食物中含有淀粉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219320" y="213120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我们的身体需要各种营养，这些营养都储存在种类丰富的食物中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丰富的食物是能够摄取各种丰富的营养的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380880"/>
            <a:ext cx="1828800" cy="7621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66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结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方正姚体"/>
                <a:ea typeface="方正姚体"/>
              </a:rPr>
              <a:t>考考你：填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把食物放在白纸上挤压滑动，白纸上留下油渍，说明这种食物含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(          );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在食物上滴碘酒，是为了检验食物中是否含有（           ）；想知道食物中是否含有蛋白质、维生素等可以看食品标签或（                      ）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把食物放在白纸上挤压滑动，白纸上留下油渍，说明这种食物含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(          )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在食物上滴碘酒，是为了检验食物中是否含有（           ）；想知道食物中是否含有蛋白质、维生素等可以看食品标签或（                      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1143000"/>
            <a:ext cx="8534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人体维持健康需要蛋白质（            ）、（      ）、（        ）、矿物质、水和膳食纤维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09480" y="1676520"/>
            <a:ext cx="70628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，你有哪些收获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267080" y="3581280"/>
            <a:ext cx="3657600" cy="2892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28600" y="914400"/>
            <a:ext cx="69343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们能从种类丰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的食物中获得什么营养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181480" y="3689280"/>
            <a:ext cx="396252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95280" y="21636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食物所含的营养成分非常丰富，通常分为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蛋白质、糖类、脂肪、维生素和矿物质以及水</a:t>
            </a: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e6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19320" y="426384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■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人体是由无数细胞构成的，蛋白质是其主要部分，因此构成和修补人体组织是蛋白质最主要的生理功能。人体细胞要不断地更新，所以每天都必须摄入一定量的蛋白质，作为构成和修补组织的“建筑材料”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■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蛋白质参与构成人体的各类重要的生命活性物质。体内蛋白质的种类数以千计，其中包括人类赖以生存的无数的酶类、多种激素、抗体等，这些酶、激素、抗体大都由蛋白质构成的。此外，蛋白质还参与调节渗透压和体内酸碱平衡以及供给能量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8947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资料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762120"/>
            <a:ext cx="4952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蛋白质是构成人体肌肉、内脏、</a:t>
            </a:r>
            <a:endParaRPr b="0" lang="en-US" sz="2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头发、指甲和血液的主要成分。</a:t>
            </a:r>
            <a:endParaRPr b="0" lang="en-US" sz="2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0880" y="17524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脂肪和糖类是人体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能量的主要来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我们的身体可以储存大量的脂肪和糖类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0912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资料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63600" y="4265280"/>
            <a:ext cx="78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几乎一切天然食物中都含有脂类，脂类是一种很重要的有机化合物，是人体必不可少的组成成份之一。其主要分为动物脂肪和植物脂肪，它们由于所含化学元素的种类、数量以及结构不同，而各有各的功能、营养价值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18741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a5442"/>
                </a:solidFill>
                <a:latin typeface="Arial"/>
              </a:rPr>
              <a:t>糖类在人体内消化后，主要以</a:t>
            </a:r>
            <a:r>
              <a:rPr b="0" lang="zh-CN" sz="3600" spc="-1" strike="noStrike">
                <a:solidFill>
                  <a:srgbClr val="003300"/>
                </a:solidFill>
                <a:latin typeface="Arial"/>
              </a:rPr>
              <a:t>葡萄糖</a:t>
            </a:r>
            <a:r>
              <a:rPr b="0" lang="zh-CN" sz="3600" spc="-1" strike="noStrike">
                <a:solidFill>
                  <a:srgbClr val="0a5442"/>
                </a:solidFill>
                <a:latin typeface="Arial"/>
              </a:rPr>
              <a:t>的形式被吸收利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8T07:44:4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